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0B3A-589E-439C-9CE4-D04F59F2C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177D-0B60-4F78-83AC-707756ED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7150-3DFF-4B9F-B400-3DB8EB77F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A520-1BD8-483F-8055-D1637DA24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81D7-2A54-46EE-B423-50D8F4E76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07EB-678C-4ACB-A739-88DC9845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6B59-3E10-4BF9-BDD4-CF150A30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E0DD-68ED-4492-8532-2944AE20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F23C-CBFB-4D9F-A444-33D341E5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00F60-5B31-4909-845A-597DBE55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1AE8-C295-47F9-B618-90F015A9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D4D8-A199-4DD2-BCE3-C75367BE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FC34-C6B9-47B4-BD1D-0DBF312A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B017F-AD0F-4D8B-980F-933FA247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422C-1D5D-4C2B-9649-977C88B6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4D01-CCDF-42E5-94E5-C4F81EB9F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901A-5BD0-40AF-854A-C59A56AEA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71FD4-EBE7-4178-A379-B51ED5B16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44028-8500-4CE7-9DFA-3D1D61BB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9624E-F00E-42BD-A550-0FB5F7D8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4AA6C-4DA3-42AA-B87F-74282F7A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D1572-AA28-436C-BD42-8B12B6FD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CE94-9B7C-4FB7-A9E9-6C222F9D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6E67D-32F4-4E9A-A60C-22BF37EC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A221C-81A2-4DE8-9E2B-3B021C70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676C5-E09C-4D01-80BF-E2B6C36C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76C34-7BE7-4DD8-9823-532D7669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CD7AD-04C6-4E95-B178-37AF0D6D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0F70E-CE9D-41EB-A285-DCFD73228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5DF1E-FB91-40D4-B8F4-588A96563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FD6E9-8ABD-4B53-84C5-B3CFFB94E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54E5B-8505-477F-9806-3FE9CBA0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F5D90-FACA-49B5-AD28-DD97D422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2DAA-1D83-47C6-ADB6-003D12EA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4C135-6E61-44C4-90FD-E1E22DEE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6F517-2432-4442-8A45-0D3B59B0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C01FC-4452-4638-B9F6-1E52A1B8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E7E5C-5B7F-4243-B64E-F92CFB67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A8BC9-9C84-4B0C-82E6-2A98FD30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4507F-A9D3-4630-8CA9-A0B4B004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F2140-E1E8-452C-AEEC-721C078E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8940A-0938-4ACB-A267-AA097C9CB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72A88-3209-4774-BD20-57845A626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71237-A72A-4A16-BB6C-79E156823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2D13-9D59-4C22-A9C4-EC75B201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59B1E-ABCA-49F3-AED9-ABED0A55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D2992-D435-4092-B91F-388944B4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8343D-9E54-4829-9F5B-F63E27C7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0629D-DF7C-4133-93EE-727D81D9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FD7A9-1DE2-46D6-9879-ADF7D801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1CBD5-5B06-4CE8-BFEC-C1BBF7A3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75CBA-F5BB-4E1A-8A95-7DE9761A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F9C5C-78F3-4CDC-BE30-E00A71B7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8139B-2FB3-4BD5-9DC4-D53444ED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92BC3-7A33-4EAA-A1F0-279112FD9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6FEC-402F-4FA9-A6AB-2D6A4205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6D252-A80C-4664-BC2C-6AEA52759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8DC79-036F-4773-A039-3B848CE39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87DF5-E4AF-45E1-B435-9CB2C0F1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F1D61-311D-46F1-A89B-D29FB9B3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B8CFE-7996-466C-BC92-3B9F0400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A30B3-B077-4F41-8BDE-E6B5432A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8CBDA-E9A4-4782-BBB5-561596CD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E5965-1BC8-4298-A3B4-90B224EB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C9037-44E8-416A-B873-5C327CDB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E66B3-0643-451A-A94D-19B0A46F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4221-91CE-4958-8466-FA1E4C2D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034A8-6298-4806-A282-889DCB0D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F89A8-50D4-47A3-BBE4-D27F448DD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4BD9F-6381-42F4-90F4-0EB7F3380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8002-A6D4-45F3-B3A7-09D7BF65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E690-E827-4D50-A44E-A16CAFFE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4223-9163-4042-B5D9-A0154EB55F0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EF1E-35B4-4B05-8A3F-C154B7DA774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CDBA-AB57-4F9A-82C4-20EADFFDDFD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C7E5-7F13-47FB-8113-95AA20A92FB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9A93-B2CD-4892-95F1-FEEFD0807604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6F16-3692-4185-9358-56CA05B0839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2011320" y="1542960"/>
            <a:ext cx="5505480" cy="9810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437920" y="3504960"/>
            <a:ext cx="228924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telyn Boulan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2" descr="http://kids.niehs.nih.gov/images/comments/eyeflash.gif"/>
          <p:cNvPicPr/>
          <p:nvPr/>
        </p:nvPicPr>
        <p:blipFill>
          <a:blip r:embed="rId2"/>
          <a:stretch/>
        </p:blipFill>
        <p:spPr>
          <a:xfrm>
            <a:off x="228600" y="1752480"/>
            <a:ext cx="2048040" cy="2048040"/>
          </a:xfrm>
          <a:prstGeom prst="rect">
            <a:avLst/>
          </a:prstGeom>
          <a:ln w="0">
            <a:noFill/>
          </a:ln>
        </p:spPr>
      </p:pic>
      <p:pic>
        <p:nvPicPr>
          <p:cNvPr id="257" name="Rectangle 5" descr=""/>
          <p:cNvPicPr/>
          <p:nvPr/>
        </p:nvPicPr>
        <p:blipFill>
          <a:blip r:embed="rId3"/>
          <a:stretch/>
        </p:blipFill>
        <p:spPr>
          <a:xfrm>
            <a:off x="2206800" y="2419200"/>
            <a:ext cx="5449680" cy="10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Title 1"/>
          <p:cNvGrpSpPr/>
          <p:nvPr/>
        </p:nvGrpSpPr>
        <p:grpSpPr>
          <a:xfrm>
            <a:off x="360360" y="176040"/>
            <a:ext cx="7650000" cy="1335240"/>
            <a:chOff x="360360" y="176040"/>
            <a:chExt cx="7650000" cy="1335240"/>
          </a:xfrm>
        </p:grpSpPr>
        <p:pic>
          <p:nvPicPr>
            <p:cNvPr id="259" name="Title 1" descr=""/>
            <p:cNvPicPr/>
            <p:nvPr/>
          </p:nvPicPr>
          <p:blipFill>
            <a:blip r:embed="rId1"/>
            <a:stretch/>
          </p:blipFill>
          <p:spPr>
            <a:xfrm>
              <a:off x="360360" y="176040"/>
              <a:ext cx="765000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457200" y="274680"/>
              <a:ext cx="7467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600" spc="-1" strike="noStrike">
                  <a:solidFill>
                    <a:srgbClr val="ffffff"/>
                  </a:solidFill>
                  <a:latin typeface="Franklin Gothic Book"/>
                </a:rPr>
                <a:t>What Facebook has to say</a:t>
              </a:r>
              <a:endParaRPr b="0" lang="en-US" sz="4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ome recommendations from the Facebook websit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hildren under 13 are not allowed on Facebook children over 13 should be monitor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acebook can’t guarantee that the site is free of inappropriate materi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f you find inappropriate material please report it so that something can be do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2"/>
          <a:stretch/>
        </p:blipFill>
        <p:spPr>
          <a:xfrm>
            <a:off x="5943600" y="5678640"/>
            <a:ext cx="2914560" cy="93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Title 1"/>
          <p:cNvGrpSpPr/>
          <p:nvPr/>
        </p:nvGrpSpPr>
        <p:grpSpPr>
          <a:xfrm>
            <a:off x="360360" y="176040"/>
            <a:ext cx="7650000" cy="1335240"/>
            <a:chOff x="360360" y="176040"/>
            <a:chExt cx="7650000" cy="1335240"/>
          </a:xfrm>
        </p:grpSpPr>
        <p:pic>
          <p:nvPicPr>
            <p:cNvPr id="264" name="Title 1" descr=""/>
            <p:cNvPicPr/>
            <p:nvPr/>
          </p:nvPicPr>
          <p:blipFill>
            <a:blip r:embed="rId1"/>
            <a:stretch/>
          </p:blipFill>
          <p:spPr>
            <a:xfrm>
              <a:off x="360360" y="176040"/>
              <a:ext cx="765000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457200" y="274680"/>
              <a:ext cx="7467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ff"/>
                  </a:solidFill>
                  <a:latin typeface="Franklin Gothic Book"/>
                </a:rPr>
                <a:t>Some safety tips from the Facebook site</a:t>
              </a:r>
              <a:endParaRPr b="0" lang="en-US" sz="4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6" name=""/>
          <p:cNvSpPr txBox="1"/>
          <p:nvPr/>
        </p:nvSpPr>
        <p:spPr>
          <a:xfrm>
            <a:off x="456840" y="1600200"/>
            <a:ext cx="7467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ver share your password with anyo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just your privacy settings, and review them of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cautious about posting and sharing personal information, especially information that could be used to identify you or locate you offline, such as your address or telephone numb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ort users and content that violate our Terms of U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ck and report anyone that sends you unwanted or inappropriate commun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Rectangle 3" descr=""/>
          <p:cNvPicPr/>
          <p:nvPr/>
        </p:nvPicPr>
        <p:blipFill>
          <a:blip r:embed="rId2"/>
          <a:stretch/>
        </p:blipFill>
        <p:spPr>
          <a:xfrm>
            <a:off x="6681960" y="3876840"/>
            <a:ext cx="246852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Title 1"/>
          <p:cNvGrpSpPr/>
          <p:nvPr/>
        </p:nvGrpSpPr>
        <p:grpSpPr>
          <a:xfrm>
            <a:off x="360360" y="176040"/>
            <a:ext cx="7650000" cy="1335240"/>
            <a:chOff x="360360" y="176040"/>
            <a:chExt cx="7650000" cy="1335240"/>
          </a:xfrm>
        </p:grpSpPr>
        <p:pic>
          <p:nvPicPr>
            <p:cNvPr id="269" name="Title 1" descr=""/>
            <p:cNvPicPr/>
            <p:nvPr/>
          </p:nvPicPr>
          <p:blipFill>
            <a:blip r:embed="rId1"/>
            <a:stretch/>
          </p:blipFill>
          <p:spPr>
            <a:xfrm>
              <a:off x="360360" y="176040"/>
              <a:ext cx="765000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457200" y="274680"/>
              <a:ext cx="7467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456840" y="1600200"/>
            <a:ext cx="7467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11:40:36Z</dcterms:created>
  <dc:creator>Longlac Public Library</dc:creator>
  <dc:description/>
  <dc:language>en-US</dc:language>
  <cp:lastModifiedBy>Karena</cp:lastModifiedBy>
  <dcterms:modified xsi:type="dcterms:W3CDTF">2009-02-07T22:12:19Z</dcterms:modified>
  <cp:revision>11</cp:revision>
  <dc:subject/>
  <dc:title>Slide 1</dc:title>
</cp:coreProperties>
</file>